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9CA8-A1F8-4F39-A4C9-0311E382726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9A62-CB49-4DA1-93DC-5EFBBB7677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ACE3-F5F9-4583-8BF8-3C56671D29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1370-6454-49B1-8EFD-B71DA15EFE2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4373-9364-4ACC-8DF9-56AC5D41CD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B274-54BF-41CE-BF8D-0AD9CA50DA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19C5-D453-44DD-844C-29156B909F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59B5-D5CF-42A5-B1C2-50AA31C4F8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8E55-F7C1-4C04-B8B2-059F1D3E02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6BAE-03D2-4047-AF5F-8F6D246E27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55D4-AAD6-4463-8BF1-FEBDF39DD0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4C33-CA6B-4375-9747-0DD71267EF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108C-42F4-4DFE-A8CF-B9D029C32B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84A0-5AB5-47B1-9753-63B7CA2086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BD2E-2D50-4062-9BF5-0BE1D7A6D85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4EA6-6BC5-418B-89F1-AE17D4C89C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6350-0E52-4032-A6A9-470B24EE3C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3869-8728-4709-9F33-FCF05C0708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A713-25BA-4598-B324-483DE009753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7B19-833F-40DE-B8EC-63E34061215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AE65-FB97-4E44-A7A6-7FCFA85D56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99F9-9199-4181-9BC3-3D058DE69B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E904-4B77-4E92-B3DF-1906CF09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ADF-9316-444B-A3DA-B162743C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47F-BE98-45AB-8656-AB0B6713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232-6405-4737-8559-674A0083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753-3B72-4C1C-BEE6-49A12978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D153-7443-4E08-A034-F9B61D4E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744C-84DA-4621-82FC-FBE97CF6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9A0-C4BA-4A7D-AEFA-A2E62788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936-2DF5-4B84-9696-8943D608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654-13F1-4AD2-80A5-9B59F591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9F7C-983B-49A8-8F32-3791502A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BD1-EBF6-4F4D-9D73-7238B0F9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E9AA-5228-4467-B2DE-BAB741F6A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is.rit.edu/mcsl/faq/eye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hroniccare.com/taste.gif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c-d.com/curriculum/lightandcolor/refraction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990720" y="380880"/>
            <a:ext cx="7086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9999ff"/>
                    </a:gs>
                    <a:gs pos="100000">
                      <a:srgbClr val="3333cc"/>
                    </a:gs>
                  </a:gsLst>
                  <a:lin ang="8100000"/>
                </a:gradFill>
                <a:latin typeface="Comic Sans MS"/>
              </a:rPr>
              <a:t>          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9999ff"/>
                  </a:gs>
                  <a:gs pos="100000">
                    <a:srgbClr val="3333cc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pic>
        <p:nvPicPr>
          <p:cNvPr id="49" name="Picture 3" descr="A:\ear.jpg"/>
          <p:cNvPicPr/>
          <p:nvPr/>
        </p:nvPicPr>
        <p:blipFill>
          <a:blip r:embed="rId1"/>
          <a:stretch/>
        </p:blipFill>
        <p:spPr>
          <a:xfrm>
            <a:off x="5943600" y="5105520"/>
            <a:ext cx="2408400" cy="1569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A:\nose.jpg"/>
          <p:cNvPicPr/>
          <p:nvPr/>
        </p:nvPicPr>
        <p:blipFill>
          <a:blip r:embed="rId2"/>
          <a:stretch/>
        </p:blipFill>
        <p:spPr>
          <a:xfrm>
            <a:off x="6781680" y="1981080"/>
            <a:ext cx="179388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A:\skin.gif"/>
          <p:cNvPicPr/>
          <p:nvPr/>
        </p:nvPicPr>
        <p:blipFill>
          <a:blip r:embed="rId3"/>
          <a:stretch/>
        </p:blipFill>
        <p:spPr>
          <a:xfrm>
            <a:off x="380880" y="1981080"/>
            <a:ext cx="186228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A:\tongue.jpg"/>
          <p:cNvPicPr/>
          <p:nvPr/>
        </p:nvPicPr>
        <p:blipFill>
          <a:blip r:embed="rId4"/>
          <a:stretch/>
        </p:blipFill>
        <p:spPr>
          <a:xfrm>
            <a:off x="3581280" y="4038480"/>
            <a:ext cx="1787760" cy="217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A:\eye.gif"/>
          <p:cNvPicPr/>
          <p:nvPr/>
        </p:nvPicPr>
        <p:blipFill>
          <a:blip r:embed="rId5"/>
          <a:stretch/>
        </p:blipFill>
        <p:spPr>
          <a:xfrm>
            <a:off x="609480" y="5181480"/>
            <a:ext cx="2286000" cy="143028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1" descr=""/>
          <p:cNvPicPr/>
          <p:nvPr/>
        </p:nvPicPr>
        <p:blipFill>
          <a:blip r:embed="rId6"/>
          <a:stretch/>
        </p:blipFill>
        <p:spPr>
          <a:xfrm>
            <a:off x="2425680" y="-42840"/>
            <a:ext cx="5595840" cy="3981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mewoldsen\My Documents\Physics\PowerPoint\New Folder\eye.j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0"/>
            <a:ext cx="61246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6858000" y="243828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ind Spo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5715000" y="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scles for focus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" name="Straight Arrow Connector 4"/>
          <p:cNvCxnSpPr/>
          <p:nvPr/>
        </p:nvCxnSpPr>
        <p:spPr>
          <a:xfrm flipH="1">
            <a:off x="5104800" y="456840"/>
            <a:ext cx="61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6"/>
          <p:cNvCxnSpPr/>
          <p:nvPr/>
        </p:nvCxnSpPr>
        <p:spPr>
          <a:xfrm flipH="1">
            <a:off x="5486040" y="609480"/>
            <a:ext cx="381600" cy="556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762120" y="1981080"/>
            <a:ext cx="777240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100000">
                      <a:srgbClr val="156b13"/>
                    </a:gs>
                  </a:gsLst>
                  <a:lin ang="8100000"/>
                </a:gradFill>
                <a:latin typeface="Comic Sans MS"/>
              </a:rPr>
              <a:t>Hearing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100000">
                    <a:srgbClr val="156b13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3049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a sound is made, the air around the sound vibra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14400" y="3276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ring starts when some of the sound waves go into the e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5" descr="A:\ring_ear.jpg"/>
          <p:cNvPicPr/>
          <p:nvPr/>
        </p:nvPicPr>
        <p:blipFill>
          <a:blip r:embed="rId1"/>
          <a:stretch/>
        </p:blipFill>
        <p:spPr>
          <a:xfrm>
            <a:off x="2819520" y="4800600"/>
            <a:ext cx="3863880" cy="1725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990720" y="3049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99ff"/>
                    </a:gs>
                  </a:gsLst>
                  <a:lin ang="8100000"/>
                </a:gradFill>
                <a:latin typeface="Comic Sans MS"/>
              </a:rPr>
              <a:t>Parts of the Ear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99ff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57200" y="1371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re are nine main parts of the e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85800" y="22096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 Pinn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85800" y="3048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 Ear can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85800" y="3886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 Ear dru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952880" y="22096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.  Anvi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952880" y="3048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.  Stirr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952880" y="38862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.  Cochle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685800" y="47242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.  Hamm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952880" y="4724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.  Eustachian tub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2438280" y="5486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9.  Auditory ner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304920" y="152280"/>
            <a:ext cx="8686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50000">
                      <a:srgbClr val="00cc99"/>
                    </a:gs>
                    <a:gs pos="100000">
                      <a:srgbClr val="ccff99"/>
                    </a:gs>
                  </a:gsLst>
                  <a:lin ang="13500000"/>
                </a:gradFill>
                <a:latin typeface="Comic Sans MS"/>
              </a:rPr>
              <a:t>                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50000">
                    <a:srgbClr val="00cc99"/>
                  </a:gs>
                  <a:gs pos="100000">
                    <a:srgbClr val="ccff99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0" y="2286000"/>
            <a:ext cx="9144000" cy="11912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ear cana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the tube between the outside of the ear and the ear dru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3581280"/>
            <a:ext cx="9144000" cy="11912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ear dru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in the middle ear.  It vibrates when sound waves hit i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5" descr="A:\ear.jpg"/>
          <p:cNvPicPr/>
          <p:nvPr/>
        </p:nvPicPr>
        <p:blipFill>
          <a:blip r:embed="rId1"/>
          <a:stretch/>
        </p:blipFill>
        <p:spPr>
          <a:xfrm>
            <a:off x="2971800" y="4821120"/>
            <a:ext cx="3124080" cy="2036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pinn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the part of the ear               that you can se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ccccff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304920" y="304920"/>
            <a:ext cx="8534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Parts of the Ear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2193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three smallest bones in the body, the hammer, the anvil, and the stirrup,            are in the middle e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04920" y="2971800"/>
            <a:ext cx="8610480" cy="106884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amm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ets the vibrations from the eardrum, then sends them to the anvi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52280" y="4419720"/>
            <a:ext cx="8991720" cy="5814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anvi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sses the vibrations to the stirru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33520" y="5257800"/>
            <a:ext cx="8381880" cy="106884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tirr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sses the vibrations                   to the inner e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0f0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1026"/>
          <p:cNvSpPr txBox="1"/>
          <p:nvPr/>
        </p:nvSpPr>
        <p:spPr>
          <a:xfrm>
            <a:off x="380880" y="228600"/>
            <a:ext cx="845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ccff"/>
                    </a:gs>
                    <a:gs pos="100000">
                      <a:srgbClr val="3333cc"/>
                    </a:gs>
                  </a:gsLst>
                  <a:lin ang="13500000"/>
                </a:gradFill>
                <a:latin typeface="Comic Sans MS"/>
              </a:rPr>
              <a:t>                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ccff"/>
                  </a:gs>
                  <a:gs pos="100000">
                    <a:srgbClr val="3333cc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115" name="Text Box 1027"/>
          <p:cNvSpPr/>
          <p:nvPr/>
        </p:nvSpPr>
        <p:spPr>
          <a:xfrm>
            <a:off x="228600" y="19051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The inner ear is made of                                the cochlea and liquid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1028"/>
          <p:cNvSpPr/>
          <p:nvPr/>
        </p:nvSpPr>
        <p:spPr>
          <a:xfrm>
            <a:off x="380880" y="3276720"/>
            <a:ext cx="8458200" cy="10688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cochle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in the inner ear.  The cochlea looks like a she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1029"/>
          <p:cNvSpPr/>
          <p:nvPr/>
        </p:nvSpPr>
        <p:spPr>
          <a:xfrm>
            <a:off x="380880" y="609480"/>
            <a:ext cx="8458200" cy="10688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ustachian tub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rols the amount of pressure in the e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030"/>
          <p:cNvSpPr/>
          <p:nvPr/>
        </p:nvSpPr>
        <p:spPr>
          <a:xfrm>
            <a:off x="380880" y="4456080"/>
            <a:ext cx="845820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auditory ner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arries the           hearing information to the brain and       the brain tells us what we hear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28600" y="1522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3500000"/>
                </a:gradFill>
                <a:latin typeface="Comic Sans MS"/>
              </a:rPr>
              <a:t>The Ear and Balanc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09480" y="1295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The ear works with the brain to control your bala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838080" y="259092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l of your movements are controlled by balance and muscl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14400" y="3809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liquid in your inner ear is responsible for your bala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52280" y="502920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liquid in your ear moves when we move.  The liquid movement sends information to the brain to tell it how we are mov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-4680" y="304920"/>
            <a:ext cx="9264600" cy="63244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6248520" y="1219320"/>
            <a:ext cx="1295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457200" y="1523880"/>
            <a:ext cx="5105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8b049"/>
                    </a:gs>
                  </a:gsLst>
                  <a:lin ang="13500000"/>
                </a:gradFill>
                <a:latin typeface="Comic Sans MS"/>
              </a:rPr>
              <a:t>Touch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8b049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5228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ense of touch is located in the ski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143000" y="4343400"/>
            <a:ext cx="685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219320" y="373392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nerves in the skin allow us to feel </a:t>
            </a: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textur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pressure, heat, cold, and pai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990720" y="5715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xture is how something feel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7" descr="A:\skin.gif"/>
          <p:cNvPicPr/>
          <p:nvPr/>
        </p:nvPicPr>
        <p:blipFill>
          <a:blip r:embed="rId1"/>
          <a:stretch/>
        </p:blipFill>
        <p:spPr>
          <a:xfrm>
            <a:off x="6324480" y="1447920"/>
            <a:ext cx="1675080" cy="1917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685800" y="1447920"/>
            <a:ext cx="7620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99ff99"/>
                    </a:gs>
                    <a:gs pos="100000">
                      <a:srgbClr val="ccffcc"/>
                    </a:gs>
                  </a:gsLst>
                  <a:lin ang="8100000"/>
                </a:gradFill>
                <a:latin typeface="Comic Sans MS"/>
              </a:rPr>
              <a:t>Smel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99ff99"/>
                  </a:gs>
                  <a:gs pos="100000">
                    <a:srgbClr val="ccffcc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57200" y="4572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nose controls your sense of smell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838080" y="3429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nose is able to smell 80 different kinds of smell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5" descr="A:\nose.jpg"/>
          <p:cNvPicPr/>
          <p:nvPr/>
        </p:nvPicPr>
        <p:blipFill>
          <a:blip r:embed="rId1"/>
          <a:stretch/>
        </p:blipFill>
        <p:spPr>
          <a:xfrm>
            <a:off x="3886200" y="4648320"/>
            <a:ext cx="153036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304920" y="457200"/>
            <a:ext cx="5715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Sense Organ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34120" y="1600200"/>
            <a:ext cx="3504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Sense organ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carry messages about the environment to the central nervous syste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4" descr="A:\eye.gif"/>
          <p:cNvPicPr/>
          <p:nvPr/>
        </p:nvPicPr>
        <p:blipFill>
          <a:blip r:embed="rId3"/>
          <a:stretch/>
        </p:blipFill>
        <p:spPr>
          <a:xfrm>
            <a:off x="228600" y="2133720"/>
            <a:ext cx="2209680" cy="1382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A:\skin.gif"/>
          <p:cNvPicPr/>
          <p:nvPr/>
        </p:nvPicPr>
        <p:blipFill>
          <a:blip r:embed="rId4"/>
          <a:stretch/>
        </p:blipFill>
        <p:spPr>
          <a:xfrm>
            <a:off x="152280" y="4495680"/>
            <a:ext cx="1530360" cy="1752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A:\tongue.jpg"/>
          <p:cNvPicPr/>
          <p:nvPr/>
        </p:nvPicPr>
        <p:blipFill>
          <a:blip r:embed="rId5"/>
          <a:stretch/>
        </p:blipFill>
        <p:spPr>
          <a:xfrm>
            <a:off x="3962520" y="4495680"/>
            <a:ext cx="1474560" cy="179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A:\ear.jpg"/>
          <p:cNvPicPr/>
          <p:nvPr/>
        </p:nvPicPr>
        <p:blipFill>
          <a:blip r:embed="rId6"/>
          <a:stretch/>
        </p:blipFill>
        <p:spPr>
          <a:xfrm>
            <a:off x="2666880" y="1981080"/>
            <a:ext cx="2408400" cy="157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A:\nose.jpg"/>
          <p:cNvPicPr/>
          <p:nvPr/>
        </p:nvPicPr>
        <p:blipFill>
          <a:blip r:embed="rId7"/>
          <a:stretch/>
        </p:blipFill>
        <p:spPr>
          <a:xfrm>
            <a:off x="1905120" y="3886200"/>
            <a:ext cx="179388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3520" y="304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r sense of taste comes from the taste buds in the tongu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85800" y="42670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Taste bud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the parts on the tongue that allow us to tas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066680" y="56386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 kinds of taste buds are sweet, sour, bitter, and sal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1295280" y="2209680"/>
            <a:ext cx="6629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cc99"/>
                    </a:gs>
                    <a:gs pos="100000">
                      <a:srgbClr val="b2b2b2"/>
                    </a:gs>
                  </a:gsLst>
                  <a:lin ang="8100000"/>
                </a:gradFill>
                <a:latin typeface="Comic Sans MS"/>
              </a:rPr>
              <a:t>     </a:t>
            </a:r>
            <a:endParaRPr b="0" lang="en-US" sz="36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cc99"/>
                  </a:gs>
                  <a:gs pos="100000">
                    <a:srgbClr val="b2b2b2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</p:spTree>
  </p:cSld>
  <p:transition spd="med">
    <p:zoom dir="ou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http://www.chroniccare.com/tast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0"/>
            <a:ext cx="7391520" cy="678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cc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533520" y="380880"/>
            <a:ext cx="815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Comic Sans MS"/>
              </a:rPr>
              <a:t>Flavor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cccc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2362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stes and smells work                together to make flavo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143000" y="41148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Flavor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the tastes             of food and drink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2057400" y="304920"/>
            <a:ext cx="5105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Sense Organ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85800" y="19051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yes, ears, nose, tongue, and skin are examples of sense organ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38080" y="34290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ense organs gather information (light, sound, heat, and pressure) from the environmen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609480" y="3808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8b049"/>
                    </a:gs>
                  </a:gsLst>
                  <a:lin ang="8100000"/>
                </a:gradFill>
                <a:latin typeface="Comic Sans MS"/>
              </a:rPr>
              <a:t>Environment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8b049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90720" y="20574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environmen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everything outside the bod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143000" y="373392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ense organs gather information from outside the body, then send the messages to the brai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304920" y="2057400"/>
            <a:ext cx="6476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ffebfa"/>
                    </a:gs>
                  </a:gsLst>
                  <a:lin ang="13500000"/>
                </a:gradFill>
                <a:latin typeface="Comic Sans MS"/>
              </a:rPr>
              <a:t>Vis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bfa"/>
                  </a:gs>
                  <a:gs pos="100000">
                    <a:srgbClr val="ffebfa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38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Visio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s your ability to se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4572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ision involves the eye and the brai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6" descr="A:\eye.gif"/>
          <p:cNvPicPr/>
          <p:nvPr/>
        </p:nvPicPr>
        <p:blipFill>
          <a:blip r:embed="rId1"/>
          <a:stretch/>
        </p:blipFill>
        <p:spPr>
          <a:xfrm>
            <a:off x="7010280" y="2438280"/>
            <a:ext cx="1981440" cy="1239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mic-d.com/curriculum/lightandcolor/images/refractionfigure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8120" y="0"/>
            <a:ext cx="8499600" cy="68454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6324480" y="5162400"/>
            <a:ext cx="2095560" cy="87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5200"/>
            <a:ext cx="9144000" cy="15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ear-Sightedness (Myopia 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205440" cy="2470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380880" y="3657600"/>
            <a:ext cx="8763120" cy="21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ith near-sightedness cannot see clearly at distance. The lens doesn’t focus the image on the retina. It is just short of the retin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Donut 1"/>
          <p:cNvSpPr/>
          <p:nvPr/>
        </p:nvSpPr>
        <p:spPr>
          <a:xfrm>
            <a:off x="3352680" y="2209680"/>
            <a:ext cx="685800" cy="685800"/>
          </a:xfrm>
          <a:custGeom>
            <a:avLst/>
            <a:gdLst/>
            <a:ahLst/>
            <a:rect l="l" t="t" r="r" b="b"/>
            <a:pathLst>
              <a:path w="685800" h="685800">
                <a:moveTo>
                  <a:pt x="0" y="342900"/>
                </a:moveTo>
                <a:cubicBezTo>
                  <a:pt x="0" y="153522"/>
                  <a:pt x="153522" y="0"/>
                  <a:pt x="342900" y="0"/>
                </a:cubicBezTo>
                <a:cubicBezTo>
                  <a:pt x="532278" y="0"/>
                  <a:pt x="685800" y="153522"/>
                  <a:pt x="685800" y="342900"/>
                </a:cubicBezTo>
                <a:cubicBezTo>
                  <a:pt x="685800" y="532278"/>
                  <a:pt x="532278" y="685800"/>
                  <a:pt x="342900" y="685800"/>
                </a:cubicBezTo>
                <a:cubicBezTo>
                  <a:pt x="153522" y="685800"/>
                  <a:pt x="0" y="532278"/>
                  <a:pt x="0" y="342900"/>
                </a:cubicBezTo>
                <a:close/>
                <a:moveTo>
                  <a:pt x="69849" y="342900"/>
                </a:moveTo>
                <a:cubicBezTo>
                  <a:pt x="69849" y="493702"/>
                  <a:pt x="192098" y="615951"/>
                  <a:pt x="342900" y="615951"/>
                </a:cubicBezTo>
                <a:cubicBezTo>
                  <a:pt x="493702" y="615951"/>
                  <a:pt x="615951" y="493702"/>
                  <a:pt x="615951" y="342900"/>
                </a:cubicBezTo>
                <a:cubicBezTo>
                  <a:pt x="615951" y="192098"/>
                  <a:pt x="493702" y="69849"/>
                  <a:pt x="342900" y="69849"/>
                </a:cubicBezTo>
                <a:cubicBezTo>
                  <a:pt x="192098" y="69849"/>
                  <a:pt x="69849" y="192098"/>
                  <a:pt x="69849" y="342900"/>
                </a:cubicBezTo>
                <a:close/>
              </a:path>
            </a:pathLst>
          </a:cu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3240">
            <a:solidFill>
              <a:srgbClr val="00cc9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arsightedness(Hyperopia 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28600" y="408312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ith far-sightedness cannot see clearly up close. The lens doesn’t focus the image on the retina. The image is too spread apart when it hits the retin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15000" cy="2236680"/>
          </a:xfrm>
          <a:prstGeom prst="rect">
            <a:avLst/>
          </a:prstGeom>
          <a:ln w="0">
            <a:noFill/>
          </a:ln>
        </p:spPr>
      </p:pic>
      <p:sp>
        <p:nvSpPr>
          <p:cNvPr id="81" name="Donut 4"/>
          <p:cNvSpPr/>
          <p:nvPr/>
        </p:nvSpPr>
        <p:spPr>
          <a:xfrm>
            <a:off x="1447920" y="2133720"/>
            <a:ext cx="685800" cy="685800"/>
          </a:xfrm>
          <a:custGeom>
            <a:avLst/>
            <a:gdLst/>
            <a:ahLst/>
            <a:rect l="l" t="t" r="r" b="b"/>
            <a:pathLst>
              <a:path w="685800" h="685800">
                <a:moveTo>
                  <a:pt x="0" y="342900"/>
                </a:moveTo>
                <a:cubicBezTo>
                  <a:pt x="0" y="153522"/>
                  <a:pt x="153522" y="0"/>
                  <a:pt x="342900" y="0"/>
                </a:cubicBezTo>
                <a:cubicBezTo>
                  <a:pt x="532278" y="0"/>
                  <a:pt x="685800" y="153522"/>
                  <a:pt x="685800" y="342900"/>
                </a:cubicBezTo>
                <a:cubicBezTo>
                  <a:pt x="685800" y="532278"/>
                  <a:pt x="532278" y="685800"/>
                  <a:pt x="342900" y="685800"/>
                </a:cubicBezTo>
                <a:cubicBezTo>
                  <a:pt x="153522" y="685800"/>
                  <a:pt x="0" y="532278"/>
                  <a:pt x="0" y="342900"/>
                </a:cubicBezTo>
                <a:close/>
                <a:moveTo>
                  <a:pt x="69849" y="342900"/>
                </a:moveTo>
                <a:cubicBezTo>
                  <a:pt x="69849" y="493702"/>
                  <a:pt x="192098" y="615951"/>
                  <a:pt x="342900" y="615951"/>
                </a:cubicBezTo>
                <a:cubicBezTo>
                  <a:pt x="493702" y="615951"/>
                  <a:pt x="615951" y="493702"/>
                  <a:pt x="615951" y="342900"/>
                </a:cubicBezTo>
                <a:cubicBezTo>
                  <a:pt x="615951" y="192098"/>
                  <a:pt x="493702" y="69849"/>
                  <a:pt x="342900" y="69849"/>
                </a:cubicBezTo>
                <a:cubicBezTo>
                  <a:pt x="192098" y="69849"/>
                  <a:pt x="69849" y="192098"/>
                  <a:pt x="69849" y="342900"/>
                </a:cubicBezTo>
                <a:close/>
              </a:path>
            </a:pathLst>
          </a:cu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3240">
            <a:solidFill>
              <a:srgbClr val="00cc9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Parts of the Ey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4520" y="1522080"/>
            <a:ext cx="850752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tectors on the Re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intensity and motion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lind spo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or the eye is cause by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ptic ner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5:23:15Z</dcterms:created>
  <dc:creator> </dc:creator>
  <dc:description/>
  <cp:keywords/>
  <dc:language>en-US</dc:language>
  <cp:lastModifiedBy>St. Aloysius</cp:lastModifiedBy>
  <cp:lastPrinted>2014-05-20T16:22:21Z</cp:lastPrinted>
  <dcterms:modified xsi:type="dcterms:W3CDTF">2014-06-02T15:39:45Z</dcterms:modified>
  <cp:revision>74</cp:revision>
  <dc:subject/>
  <dc:title>PowerPoint Presentation</dc:title>
</cp:coreProperties>
</file>